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36B3-09CE-4124-AEE0-F23652AFC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3D2-F961-4857-8EB4-3CF4F809C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59DE-3A50-4255-B8CC-49251F82C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3500-2E8B-4948-9CA2-28F798A5E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438-BB61-47C3-B217-2EFA261A5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1590-B45A-41C5-A268-4A0935F04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C375-73AA-4F3C-9AFC-41CF1A392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A8EF-B608-4D19-BFFA-349E7E8EE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4AAF-DA00-4F71-8802-10E9B58F9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DBD-7859-45A8-A790-7D05DC248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A8E9-4492-413E-8F63-65E71BFE9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A8A-5EFC-4C4A-BE24-689D812E2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A4DD-B501-4289-BA6D-BCD48B2DF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1669-721F-47D1-9FD3-547E6A815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6124-4AED-429F-AB66-B7D74AAEE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8C61-3A60-45FD-A70D-EFB76BDFF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A8D-26B1-468A-9D74-D12DFBEC4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0A27-5DE0-4200-BF04-3B4833E89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F3D1-2E46-47A3-BB35-A6045105E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05F-E356-4042-8352-3E2500869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8D8D-0338-4153-B977-F0C1BFCA3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908-2550-45FC-BD2E-3AE78E3F0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A38-11D1-456C-B4B5-FC776CCD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A22-3310-435F-BD7C-234B13F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AB0-905D-44D5-8BF4-BCA9B5B2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A11-337C-44E1-BF31-004E62E4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A16-EF74-4FCD-AA65-423FE5C5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C21-0377-4844-9DC0-16977B9E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B85D-2CF5-4CD5-BD88-670AA360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73C-D390-44CE-911C-5DE5C00A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87A-DF9D-4A0F-8BD5-2C527FA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C49-C18E-4254-92F3-86089CB0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E18-04EC-4DB4-9E08-AA49ACC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747-3B12-4877-A3FE-B80393A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7D48-E7EC-426C-BC49-291A800F25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e tokova novca od internet krimin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ja 1.4.2/Ča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ektronski transfer, preuzimanje/otvaranje bankovnih raču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okotehnološki kriminalci se i dalje oslanjaju na tradicionalne bankarske uslu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o je očigledno naročito značajno u slučajevima koji uključuju izvlačenje novca sa bankovnih računa žrt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cionalne bankarske uslu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okviru tradicionalnog bankarskog sektora, koje tehnike se mogu iskoristiti kako bi se izbegli izvori sredstava izvučeni sa bankovnog računa žrt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elektronskog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ankovni računi žrtava su kompromitovani kroz različite tehnike visokotehnološkog kriminala (npr. 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phishin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al</a:t>
            </a:r>
            <a:r>
              <a:rPr b="0" i="1" lang="sr-Latn-BA" sz="2500" spc="-1" strike="noStrike">
                <a:solidFill>
                  <a:srgbClr val="000000"/>
                </a:solidFill>
                <a:latin typeface="Calibri"/>
              </a:rPr>
              <a:t>w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vi korisnici su dodati na bankovni račun žrtve i sredstva se prenose na račune krijumč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redstva se povlače u gotovini ili prenose u druga odrediš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i se vrše u malim iznosima kako bi se izbegli pragovi izveštavanj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ompleksne strukture beznačajnih transfera na raču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krijumčara koriste se da za</a:t>
            </a:r>
            <a:r>
              <a:rPr b="0" lang="sr-Latn-BA" sz="2500" spc="-1" strike="noStrike">
                <a:solidFill>
                  <a:srgbClr val="000000"/>
                </a:solidFill>
                <a:latin typeface="Calibri"/>
              </a:rPr>
              <a:t>tam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zvore sredsta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štita klije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e kontrole koriste finansijske institucije kako bi sprečile zloupotrebu kompromitovanih akreditiva klijenta za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ankarstv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potrebe elektronskih transf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elektronskih transf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ovlačenja gotov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kave izazove pruža gotovina visokotehnološkim kriminalcim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nekim slučajevima visokotehnološkog kriminala, kao što je kriminal vezan za platne kartice, prihodi od kriminala se odmah povlače u gotovin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 drugim slučajevima, prihodi od kriminala iz drugih oblika kriminala se prenose na račune krijumča</a:t>
            </a:r>
            <a:r>
              <a:rPr b="0" lang="sr-Latn-BA" sz="27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sa kojih se povlač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otovina se obično ponovo unosi u finansijske sisteme kroz razne tehnike kao što s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upovina pripejd kartica raznih vrsta (npr. kredit za kupovinu, kredit za mobilne telefo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orišćenje krijumčara novca ili kompromitovanih bankovnih raču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i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se mogu koristiti da bi se naznačila upotreba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tenja povlačenja gotov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podizanja gotov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luge plaćanja preko </a:t>
            </a:r>
            <a:r>
              <a:rPr b="1" lang="sr-Latn-BA" sz="4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Šta je to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riminalno stečena sredstva se prenose na račun usluga plaćanja preko </a:t>
            </a:r>
            <a:r>
              <a:rPr b="0" lang="sr-Latn-BA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tern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ve opcij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lužba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nudi usluge sličn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nter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nkovnom računu, u kom slučaju se koriste tipologije slične "elektronskom transferu / kreiranju ili prebacivanju bankovnih računa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redstva koja se drže sa kod Služb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za plaćanje preko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a koriste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a kupovinu proizvoda i usluga na </a:t>
            </a:r>
            <a:r>
              <a:rPr b="0" lang="sr-Latn-BA" sz="2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ternetu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izvori dokaza mogu biti korišćeni kako bi se naznačila upotreba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us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rzavanje, oduzimanje i konfiskovanje sredstava od usluga plaćanja preko </a:t>
            </a:r>
            <a:r>
              <a:rPr b="0" lang="sr-Latn-BA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tern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zamrzavanje, oduzimanje i konfiskaciju sredstava koje poseduje davalac uluga plaćanja preko 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er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 objasne tipologiju kriminalnog toka novca korišćenja novčanih krijumč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ktronski transferi, preuzimanje/otvaranje rač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dizanja gotov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vaoci 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ernet uslu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27280" y="4500720"/>
            <a:ext cx="210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avaoci novčanih dozna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 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Šta VI misli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je davalac novčanih doznak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U čemu je problem sa davaocim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zička lica (svesno i bez znanja) se regrutuju kao krijumčari za šemu pranja, često putem radnih mesta "posao kod kuće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hodi od kriminala se prenose na bankovne račune krijumč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čari podižu gotovinu i prenose gotovinu putem elektronskog transfera određenom korisnik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rijum</a:t>
            </a:r>
            <a:r>
              <a:rPr b="0" lang="sr-Latn-BA" sz="2200" spc="-1" strike="noStrike">
                <a:solidFill>
                  <a:srgbClr val="000000"/>
                </a:solidFill>
                <a:latin typeface="Calibri"/>
              </a:rPr>
              <a:t>čar, tzv. “mazga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zadržava deo uplate kao proviziju za obavljanje ove uslu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 su obično u iznosima koji manji od praga izveštavanja, kako bi se izbeglo otkrivanj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vaoci doznaka se ponovo koriste kako bi se gotovina prebacila na krajnje odrediš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ija umešanog davao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ovani su slučajevi kada je opsežna upotreba određenih davaoca doznaka izazvala zabrinutost zbog mogućeg dosluha ili infiltracije takvih po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i se izvori dokaza mogu koristiti kako bi se ukaza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acija korišćenja davaoca dozn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SIJA: Koja procesna ovlašćenja su dostupna / relevantna za identifikaciju / korišćenje davalaca dozn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Aleksandra</cp:lastModifiedBy>
  <cp:lastPrinted>2016-05-18T07:38:13Z</cp:lastPrinted>
  <dcterms:modified xsi:type="dcterms:W3CDTF">2017-10-10T13:33:32Z</dcterms:modified>
  <cp:revision>316</cp:revision>
  <dc:subject/>
  <dc:title>PowerPoint Presentation</dc:title>
</cp:coreProperties>
</file>